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C9839-B5AC-4E57-9F21-3B1C3C26E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590EF-F78F-40CD-BC28-3763F37AC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AC449-7F5C-437E-AAA2-CAAB5FF9E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98E5C-99A3-4AED-A2DB-24FB37AAC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C41C1A-684A-4136-AA8B-BA0A7DDB3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5AA914-375E-43FB-9320-E7630A58B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0D4345-4A67-493F-9609-9A518FC71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34836E-A866-43AC-9886-307898597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995FA5-FC58-4161-917D-6AB7FB485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E2DA28-6274-4261-ABB6-C2BFA5913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2B1E09-E9B2-4474-A68A-A13104894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3DE15-B080-43E4-A7EE-F464800E6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C357F2-58E2-407D-86FA-D2832547B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A65FC3-1EAF-4529-8024-1592BC7EB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A006C6-CF2F-4C6D-BAD1-73865144D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C5F360-F6FF-4882-8FFA-BB1B670DF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E14751-793A-4056-AE01-76BB51CFB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3B69F-24B7-46AB-A965-425E1CC0F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2440F-5FB7-477A-B423-AEB58F1A5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3E558-AA66-4964-882F-FDB00A8CF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A19E3-A2FD-4BFB-9C0F-08D98B18E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CCAB8-C15E-46FF-8D04-08127EAD7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A779B-4E6F-41F9-973F-01FD271CF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98962-0760-4BB9-9A98-0D873F5B2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7A923-C960-41A7-91EF-695952F7DE2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C2D3C-2779-4A41-9EA9-D5669A471DA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cit.cornell.edu/policy/memos/facebook.html" TargetMode="External"/><Relationship Id="rId2" Type="http://schemas.openxmlformats.org/officeDocument/2006/relationships/hyperlink" Target="http://www.educause.edu/apps/er/erm06/erm0660.asp" TargetMode="External"/><Relationship Id="rId3" Type="http://schemas.openxmlformats.org/officeDocument/2006/relationships/hyperlink" Target="http://www.educause.edu/LIVE0621" TargetMode="External"/><Relationship Id="rId4" Type="http://schemas.openxmlformats.org/officeDocument/2006/relationships/hyperlink" Target="http://blogs.edgehill.ac.uk/webservices/2007/10/30/fear-of-facebook/" TargetMode="External"/><Relationship Id="rId5" Type="http://schemas.openxmlformats.org/officeDocument/2006/relationships/hyperlink" Target="http://student.independent.co.uk/university_life/article3068385.ece" TargetMode="External"/><Relationship Id="rId6" Type="http://schemas.openxmlformats.org/officeDocument/2006/relationships/hyperlink" Target="http://www.apple.com/au/education/digitalkids/disconnect/landscape.html" TargetMode="External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1447920"/>
            <a:ext cx="883944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3e3ff"/>
                </a:solidFill>
                <a:latin typeface="Arial"/>
              </a:rPr>
              <a:t>Facebook: teaching, communicating and collaborating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809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ny Bret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ad of IT Support Staff Servi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U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uesday 6 November 200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Disciplinary Actio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n’t name your employer and then defame them or say anything to bring them into disrepu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xford Students have been disciplined with evidence from Facebook after post-exam “trash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April, students at a Toronto school were banned from an end-of-the-year trip after disparaging remarks about a teacher were found on Faceboo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So why use Facebook for Teaching?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sonal and professional networking only differ in the content, not the to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udents today are “digitally native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 is a divide between the way they learn and the way we tea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are the digital immigrants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aching students the way they prefer to learn may improve attain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Digital Natives vs. Digital Immigrants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990720" y="1295280"/>
          <a:ext cx="7315200" cy="472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295280"/>
                    <a:ext cx="7315200" cy="472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8" name=""/>
          <p:cNvSpPr/>
          <p:nvPr/>
        </p:nvSpPr>
        <p:spPr>
          <a:xfrm>
            <a:off x="525960" y="6361200"/>
            <a:ext cx="83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ource: http://www.apple.com/au/education/digitalkids/disconnect/landscape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Teaching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Have your students in group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Have them as Facebook “friends” perhaps with limited profile stat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ost and share UR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Weblearn materi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Reading li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Other online materi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hotos &amp; Videos (but watch copyright!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ommunicating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iscuss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hot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Vide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osted items (Weblearn URLs?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Group events and invit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Groups for tutorial group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on’t have to be a friend to be in a group with someo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onal messages &amp; threa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ollaborating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-360" y="1600200"/>
            <a:ext cx="8991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oss-Institution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bject-specific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y search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oups or Events for specific conferences/meeting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CISA is experimenting with th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asy way to post and share videos and phot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iversal across HE worldwide (almost!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n’t forget ownership &amp; privacy issues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Exercis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28240" y="1371600"/>
            <a:ext cx="8915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ke a profile if you don’t already have o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just your privacy settin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oin the Oxford net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ke friends with your neighbou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ke your neighbour only see your limited prof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arch for groups that cover your subj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ke a group and invite your neighbour to it – or join an existing o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ve a look at the Oxford network p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arch for some people you kno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usual names are easier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28240" y="1371600"/>
            <a:ext cx="8915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ffcc"/>
                </a:solidFill>
                <a:uFillTx/>
                <a:latin typeface="Arial"/>
                <a:hlinkClick r:id="rId1"/>
              </a:rPr>
              <a:t>http://www.cit.cornell.edu/policy/memos/facebook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seful notes from Cornell (April 2006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ffcc"/>
                </a:solidFill>
                <a:uFillTx/>
                <a:latin typeface="Arial"/>
                <a:hlinkClick r:id="rId2"/>
              </a:rPr>
              <a:t>http://www.educause.edu/apps/er/erm06/erm0660.as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tes from Educause December 2006 (long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ffcc"/>
                </a:solidFill>
                <a:uFillTx/>
                <a:latin typeface="Arial"/>
                <a:hlinkClick r:id="rId3"/>
              </a:rPr>
              <a:t>http://www.educause.edu/LIVE062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ive presentation: Facing Facebook and other social networking technologi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ffcc"/>
                </a:solidFill>
                <a:uFillTx/>
                <a:latin typeface="Arial"/>
                <a:hlinkClick r:id="rId4"/>
              </a:rPr>
              <a:t>http://blogs.edgehill.ac.uk/webservices/2007/10/30/fear-of-facebook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mments from a UK Univers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ffcc"/>
                </a:solidFill>
                <a:uFillTx/>
                <a:latin typeface="Arial"/>
                <a:hlinkClick r:id="rId5"/>
              </a:rPr>
              <a:t>http://student.independent.co.uk/university_life/article3068385.e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etworking sites: Professors keep out! (October  07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ffcc"/>
                </a:solidFill>
                <a:uFillTx/>
                <a:latin typeface="Arial"/>
                <a:hlinkClick r:id="rId6"/>
              </a:rPr>
              <a:t>http://www.apple.com/au/education/digitalkids/disconnect/landscape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he “digital disconnect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Agenda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ick Facebook Introdu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ivacy and Ownership Concer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ciplinary A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munica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llabora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ach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actic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What is Facebook?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“social networking”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amework for inform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lex control of who can see wh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rs have a “profile” with a picture* and other personal details as they wish, including “limited profile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sed on “Networks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acebook creates a newsfeed based on what your “friends” are do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480" y="6491160"/>
            <a:ext cx="707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* Picture is important for recognition, especially with common nam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What is Facebook?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610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tarted in Harvard University Feb 200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Later added academic addresses (.edu, .ac.uk etc) making “networks” for “colleges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xford network has just over 33,000 people in it, out a possible c. 45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Regional and Employer networks also ex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gional” anyone can join, but can’t change too oft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mployer” requires email address in the right doma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Opened to anyone with email in Sep 200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Facebook featur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W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ssages INBOX (and thread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k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ou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otos &amp; Videos (with tagging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sted items (text and URL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ared i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Other Social Networking Sit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Bebo – lots of school childr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MySpace – musicians et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ometimes called “poor man’s facebook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Friendfind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wit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nd other minor si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Privacy Concern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ople worry about revealing their personal lives to the worl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utors and Students may want to keep things from each other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tricted Profiles can hel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dentity Theft Ris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n’t show DOB and Home Address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cebook staff can check profiles (for policy violation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ngs are “cached” on the web so even if you put something up then remove it, it may still be held elsewhere for years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How to control privacy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ivacy screen on Faceboo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ttings for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f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ar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ws fe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ke, message, friend reque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ppli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n’t put stuff up you don’t want others to see.  Think about future employers et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Ownership Concern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Facebook T&amp;Cs say that they own everything you put t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All content on the Site … are the proprietary property of the Company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opyright Policy is stri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ut don’t put things up you intend to publish or otherwise claim copyright to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You acknowledge and agree that any questions, comments, suggestions, ideas, feedback or other information about the Site or the Service ("Submissions"), provided by you to Company are non-confidential and shall become the sole property of Company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ony Brett</cp:lastModifiedBy>
  <dcterms:modified xsi:type="dcterms:W3CDTF">2007-11-06T11:26:51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