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7844-31E3-4E37-B45E-69FE685F0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41A2-1C3C-4479-9873-4CE01FF69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76A1-F6ED-4591-8FA6-E4A147A13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02E0-64BC-4BA1-8D39-1B4F04B3D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FF13C9-B424-459F-B4E0-206B7CDAE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935B8F-024C-44AE-B567-469B68137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B0BFB3-C793-4AE7-B64B-196070CBA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986DC8-73D2-4C2A-A798-556A02720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9E4D9B-DB6A-475F-AD23-3994904BB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D36041-4115-4FF6-BEBC-DF44BFC1E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041E7A-C4B4-4C66-A3B3-3AA86F7FC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97A1-EDCC-4BE7-874C-B57C8A7EC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D9BA2B-70B2-402D-9AC3-1D29E3CB7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70E861-A436-42FD-9445-3FF56096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954A8D-BCE8-4F26-91C4-4A3C424AE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868A9F-CA32-4B7C-A49B-68E878BC5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D3ABD6-072E-4491-B552-81161A931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84CF-4D91-4055-951C-BA6436669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4E36-7C83-4CE5-B10B-5509714F2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07FA-43C5-47A5-88D2-8C673D531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4BD8-4AD1-4CC3-936B-49737398A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D319-2FE5-498F-A9BC-18EA66B5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FA34-FD2D-4A6E-B6DE-1789E3DE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D744-4C82-4FA8-8F0F-C05B563F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58B92-ADE9-4798-89C3-AD151D3533B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E7686-BBB1-49F2-BA85-D7B2695B1D3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cit.cornell.edu/policy/memos/facebook.html" TargetMode="External"/><Relationship Id="rId2" Type="http://schemas.openxmlformats.org/officeDocument/2006/relationships/hyperlink" Target="http://www.educause.edu/apps/er/erm06/erm0660.asp" TargetMode="External"/><Relationship Id="rId3" Type="http://schemas.openxmlformats.org/officeDocument/2006/relationships/hyperlink" Target="http://www.educause.edu/LIVE0621" TargetMode="External"/><Relationship Id="rId4" Type="http://schemas.openxmlformats.org/officeDocument/2006/relationships/hyperlink" Target="http://blogs.edgehill.ac.uk/webservices/2007/10/30/fear-of-facebook/" TargetMode="External"/><Relationship Id="rId5" Type="http://schemas.openxmlformats.org/officeDocument/2006/relationships/hyperlink" Target="http://student.independent.co.uk/university_life/article3068385.ece" TargetMode="External"/><Relationship Id="rId6" Type="http://schemas.openxmlformats.org/officeDocument/2006/relationships/hyperlink" Target="http://www.apple.com/au/education/digitalkids/disconnect/landscape.html" TargetMode="Externa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1447920"/>
            <a:ext cx="883944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Facebook: teaching, communicating and collaborating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ny Bret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d of IT Support Staff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esday 6 November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Disciplinary Ac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name your employer and then defame them or say anything to bring them into disrepu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xford Students have been disciplined with evidence from Facebook after post-exam “trash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April, students at a Toronto school were banned from an end-of-the-year trip after disparaging remarks about a teacher were found on Facebo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So why use Facebook for Teaching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nal and professional networking only differ in the content, not the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s today are “digitally nativ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is a divide between the way they learn and the way we te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are the digital immigrant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ing students the way they prefer to learn may improve attai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Digital Natives vs. Digital Immigrant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990720" y="1295280"/>
          <a:ext cx="7315200" cy="472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295280"/>
                    <a:ext cx="7315200" cy="472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525960" y="6361200"/>
            <a:ext cx="83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urce: http://www.apple.com/au/education/digitalkids/disconnect/landscape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each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ave your students in group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ave them as Facebook “friends” perhaps with limited profile sta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ost and share UR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eblearn mate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ading l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ther online mate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hotos &amp; Videos (but watch copyright!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ommunicat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scus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ide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sted items (Weblearn URLs?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roup events and invit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roups for tutorial group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on’t have to be a friend to be in a group with some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onal messages &amp; threa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ollaborat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oss-Institution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ject-specific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y search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ups or Events for specific conferences/meet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CISA is experimenting with th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sy way to post and share videos and pho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versal across HE worldwide (almost!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forget ownership &amp; privacy issue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xercis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a profile if you don’t already have 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just your privacy set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in the Oxford 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friends with your neighbo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your neighbour only see your limited pro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arch for groups that cover your su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a group and invite your neighbour to it – or join an existing 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ve a look at the Oxford network p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arch for some people you kn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usual names are easier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http://www.cit.cornell.edu/policy/memos/facebook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ful notes from Cornell (April 2006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http://www.educause.edu/apps/er/erm06/erm0660.as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s from Educause December 2006 (lo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3"/>
              </a:rPr>
              <a:t>http://www.educause.edu/LIVE06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ive presentation: Facing Facebook and other social networking technolog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4"/>
              </a:rPr>
              <a:t>http://blogs.edgehill.ac.uk/webservices/2007/10/30/fear-of-facebook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ments from a UK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5"/>
              </a:rPr>
              <a:t>http://student.independent.co.uk/university_life/article3068385.e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etworking sites: Professors keep out! (October  07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6"/>
              </a:rPr>
              <a:t>http://www.apple.com/au/education/digitalkids/disconnect/landscape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“digital disconnect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ick Facebook Introd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vacy and Ownership Concer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iplinary 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nica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abora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ct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is Facebook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social networking”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amework for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lex control of who can see w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rs have a “profile” with a picture* and other personal details as they wish, including “limited profil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ed on “Network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cebook creates a newsfeed based on what your “friends” are do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80" y="6491160"/>
            <a:ext cx="70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 Picture is important for recognition, especially with common nam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is Facebook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arted in Harvard University Feb 200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ater added academic addresses (.edu, .ac.uk etc) making “networks” for “college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xford network has just over 33,000 people in it, out a possible c. 4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gional and Employer networks also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gional” anyone can join, but can’t change too of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mployer” requires email address in the right dom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pened to anyone with email in Sep 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Facebook featur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ssages INBOX (and thread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k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tos &amp; Videos (with tagg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ted items (text and URL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red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Other Social Networking Si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ebo – lots of school child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ySpace – musicians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ometimes called “poor man’s facebook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riendfin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wit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d other minor s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rivacy Concer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ople worry about revealing their personal lives to the wor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tors and Students may want to keep things from each othe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tricted Profiles can hel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ty Theft Ri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n’t show DOB and Home Addres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ebook staff can check profiles (for policy violation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ngs are “cached” on the web so even if you put something up then remove it, it may still be held elsewhere for year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ow to control privac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vacy screen on Facebo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tings fo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s f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ke, message, friend requ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’t put stuff up you don’t want others to see.  Think about future employers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Ownership Concer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acebook T&amp;Cs say that they own everything you put t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All content on the Site … are the proprietary property of the Compan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pyright Policy is stri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ut don’t put things up you intend to publish or otherwise claim copyright to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You acknowledge and agree that any questions, comments, suggestions, ideas, feedback or other information about the Site or the Service ("Submissions"), provided by you to Company are non-confidential and shall become the sole property of Compan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ony Brett</cp:lastModifiedBy>
  <dcterms:modified xsi:type="dcterms:W3CDTF">2007-11-06T11:26:51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